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013-5ED7-454E-A497-3AB94976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D68-EDA3-4FEC-9ED7-649E7222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98C-D6C4-46BD-B05B-203CFE4C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0C9-F1B8-4147-B50A-228C4A5C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4CD-E4E9-4789-8195-10B30D58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8A3-345E-4053-A116-B03896F5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872-C0D3-46B2-9788-16E14B8B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BAC-5D3F-48B2-A78E-23A8BB20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AA4-6479-4218-929C-74ED8848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494-BDD7-4A87-944C-7A6BADA4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1DD-2A49-43B2-B70F-A2D999FE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93B-3CCC-4437-8B14-4980852E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4738-C0FB-4455-BD6C-57E323F85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eparation of the purchase function and the payment function for Panera Bread an issue of internal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roll taxes become a liability to the employer when the payroll is pai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ny’s financial statement does not need to fully disclose the nature of its postretirement benefits obl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ontingent liability is probable and the amount of the liability can be reasonably estimated, it is recorded and discl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a current liab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3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al entry to record the payment of an interest-bearing note at its maturity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734000" y="1676520"/>
          <a:ext cx="434664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4000" y="1676520"/>
                    <a:ext cx="434664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77520"/>
            <a:ext cx="4267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s to Interest Expense and Cash and a credit to Notes Pay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s to Notes Payable and Interest Expense and a credit to Notes Pay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bit to Notes Payable and a credit to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bit to Cash and credits to Notes Payable and Interest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n employer payroll tax exp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ecurity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column report used for summarizing the data for each payroll period is call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’s earnings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roll bank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roll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sh payment controls for payroll include all of the following exce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14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blank checks in an unlocked and unsupervis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ing and approving all payroll rat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ly controlled access to the check printing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a special payroll bank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considered a fringe benefit for an employ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s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income taxes withh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ayroll tax that is paid by both the employer and the employee is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CA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companies such as Panera Bread purchase supplies for manufacturing or resale on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al entry to record the payroll for a period will include a credit to Salaries (Wages) Payable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 less all payroll de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 less taxes pa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 less voluntary ded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96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nsion plan where the company invests contributions on behalf of the employee during the employee’s working years is calle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benefi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1k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contribu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teria to not disclose or record a contingent liability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e and not esti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y possible and esti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y possible and not esti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857160"/>
            <a:ext cx="8305920" cy="17953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ly 1, Bella Salon Company issued a 60-day note with a face amount of $60,000 to Delilah Hair Products Company for merchandise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0" y="0"/>
            <a:ext cx="4419360" cy="457200"/>
            <a:chOff x="0" y="0"/>
            <a:chExt cx="4419360" cy="457200"/>
          </a:xfrm>
        </p:grpSpPr>
        <p:sp>
          <p:nvSpPr>
            <p:cNvPr id="132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549720" y="0"/>
              <a:ext cx="358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0-1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8"/>
          <p:cNvSpPr/>
          <p:nvPr/>
        </p:nvSpPr>
        <p:spPr>
          <a:xfrm>
            <a:off x="457200" y="3006720"/>
            <a:ext cx="8305920" cy="1373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eds of the note, assuming the note carries an interest rate of 6%,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0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808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Group 5"/>
          <p:cNvGrpSpPr/>
          <p:nvPr/>
        </p:nvGrpSpPr>
        <p:grpSpPr>
          <a:xfrm>
            <a:off x="0" y="0"/>
            <a:ext cx="4419360" cy="457200"/>
            <a:chOff x="0" y="0"/>
            <a:chExt cx="4419360" cy="457200"/>
          </a:xfrm>
        </p:grpSpPr>
        <p:sp>
          <p:nvSpPr>
            <p:cNvPr id="140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549720" y="0"/>
              <a:ext cx="358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0-1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55400"/>
            <a:ext cx="4114800" cy="16304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857160"/>
            <a:ext cx="8305920" cy="17953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ly 1, Bella Salon Company issued a 60-day note with a face amount of $60,000 to Delilah Hair Products Company for merchandise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0" y="0"/>
            <a:ext cx="4419360" cy="457200"/>
            <a:chOff x="0" y="0"/>
            <a:chExt cx="4419360" cy="457200"/>
          </a:xfrm>
        </p:grpSpPr>
        <p:sp>
          <p:nvSpPr>
            <p:cNvPr id="147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549720" y="0"/>
              <a:ext cx="358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0-1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8"/>
          <p:cNvSpPr/>
          <p:nvPr/>
        </p:nvSpPr>
        <p:spPr>
          <a:xfrm>
            <a:off x="457200" y="3006720"/>
            <a:ext cx="8305920" cy="1373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74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eds of the note, assuming the note is discounted at 6%,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0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Group 5"/>
          <p:cNvGrpSpPr/>
          <p:nvPr/>
        </p:nvGrpSpPr>
        <p:grpSpPr>
          <a:xfrm>
            <a:off x="0" y="0"/>
            <a:ext cx="4419360" cy="457200"/>
            <a:chOff x="0" y="0"/>
            <a:chExt cx="4419360" cy="457200"/>
          </a:xfrm>
        </p:grpSpPr>
        <p:sp>
          <p:nvSpPr>
            <p:cNvPr id="15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549720" y="0"/>
              <a:ext cx="358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0-1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4114800" cy="1752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755640"/>
            <a:ext cx="8305920" cy="30751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en Dunn’s weekly gross earnings for the week ending December 3 were $2,250, and her federal income tax withholding was $466.19. Prior to this week, Dunn had earned $98,000 for the year. Assuming the social security rate is 6% on the first $100,000 of annual earnings and Medicare is 1.5% of all earnings, what is Dunn’s net p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411480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3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83.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5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63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4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0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1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0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114800" cy="2514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,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630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783.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750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57200" y="870120"/>
            <a:ext cx="8305920" cy="45770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-Rite Inc. sold $140,000 of kitchen appliances during August under a six-month warranty. The cost to repair defects under the warranty is estimated at 6% of the sales price. On September 11, a customer required a $200 part replacement, plus $90 of labor under the warran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anc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Product Warranty Payabl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(a) the estimate and (b) the September replacement was $8,1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8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0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companies that extend credit consider the risk of nonpay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808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0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4114800" cy="1676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the terms of “short-term credit” vary by compa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12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all companies have the same types of current liabilities like Panera Bre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liabilities are obligations that will be paid out of current assets and are due within a short time, usually within on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arnings of an employee for a payroll period less employer payroll tax expenses is called net p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controls should be in place for processing and paying a company’s pay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internal control feature is to not have a special payroll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20:57Z</dcterms:created>
  <dc:creator> </dc:creator>
  <dc:description/>
  <dc:language>en-US</dc:language>
  <cp:lastModifiedBy>Leslie</cp:lastModifiedBy>
  <dcterms:modified xsi:type="dcterms:W3CDTF">2008-12-30T03:07:27Z</dcterms:modified>
  <cp:revision>29</cp:revision>
  <dc:subject/>
  <dc:title>Is the separation of the duties of the purchase function and the payment function for Panera Bread an issue of internal control?</dc:title>
</cp:coreProperties>
</file>